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B69-FBEB-46A7-BF7A-E868AB01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849-8670-456C-9C0C-31B57C3A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ADF-1277-4CD0-8CA6-D0E41223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DCA-E371-48B3-8479-D4EC2EA6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F18-8175-4B74-9B8F-87681E49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A43-B250-46C8-B8FF-61DF3F6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5A4-BE33-45CA-9D7D-B546162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D94-6BBA-41C7-99D2-A666F41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559-F13C-4D5E-AE91-5CB93069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F9B-A61C-4C71-974D-A56C0B3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C29-8CDF-4AFE-B9EC-F944254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F85-8D3A-4F42-8BBD-81EDBAE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1B8A-4E0E-431D-86B7-3E22C56C24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28680" y="380880"/>
          <a:ext cx="5015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380880"/>
                    <a:ext cx="5015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14280" y="52560"/>
          <a:ext cx="6716880" cy="67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560"/>
                    <a:ext cx="67168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0" y="1125360"/>
            <a:ext cx="86076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6920" y="423720"/>
            <a:ext cx="6410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3240" y="147600"/>
            <a:ext cx="44575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83786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431640"/>
            <a:ext cx="6172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422360"/>
            <a:ext cx="762012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1121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8:38Z</dcterms:created>
  <dc:creator>tahir</dc:creator>
  <dc:description/>
  <dc:language>en-US</dc:language>
  <cp:lastModifiedBy>tahir</cp:lastModifiedBy>
  <dcterms:modified xsi:type="dcterms:W3CDTF">2006-02-07T12:49:03Z</dcterms:modified>
  <cp:revision>1</cp:revision>
  <dc:subject/>
  <dc:title>الشريحة 1</dc:title>
</cp:coreProperties>
</file>